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B22-215D-4551-BA86-1067D079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AA6-0BA6-41AA-9A66-D8AF8D6B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7C5-457F-4739-BB2E-04328ED2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DCD-6C60-4B2D-A520-F469141D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A8430-3228-40F5-AADD-F78157B2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FB820-F964-49D6-88E7-850FE26D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D1833-FE0B-4351-B835-BF534AB6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5406D-2BBF-495F-BFDF-F1E14C32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B29F3-A76D-47F2-BB39-3E48359F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31B10-9D6D-4241-A885-2C0828C5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ED8AF-9CF5-4064-B876-372F18D2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1E5-171E-43DF-9884-08198DE0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FE94-FF16-4D88-A63C-7845AA40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A955A-4CE1-4CDF-B5F9-F1C1E5D1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60627-D63C-4749-8544-AA06A5C7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8BFEC-4D1C-4FB6-B089-D5E4E443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B65A0-638A-4728-8422-789D3099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418-D3A1-490B-A500-BF1934BD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E51-06FA-4E50-9144-F92E2360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1F6-F88C-4F5E-B84F-9AF1F15F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F54-F8A7-42C6-AB4F-269A8C18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999-A277-41EB-92DC-0FD56C56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4A7-86E3-4A9A-B0CB-FC36338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66F-6FC9-473F-8976-3B723FA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8D93-7358-4665-93DD-82FDFFB28C2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1CBB-C689-42EE-B029-6FB7C40C0BD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103400" y="-334800"/>
            <a:ext cx="703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161616"/>
                </a:solidFill>
                <a:latin typeface="Tahoma"/>
              </a:rPr>
              <a:t>Antropologia 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7200" spc="-1" strike="noStrike">
                <a:solidFill>
                  <a:srgbClr val="ffffff"/>
                </a:solidFill>
                <a:latin typeface="Tahoma"/>
              </a:rPr>
              <a:t>Como Ciência 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7200" spc="-1" strike="noStrike">
                <a:solidFill>
                  <a:srgbClr val="ffffff"/>
                </a:solidFill>
                <a:latin typeface="Tahoma"/>
              </a:rPr>
              <a:t>Cultu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6040" y="2188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conceito de antropologia cultural implica os de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1º) Ciência Social - propõe conhecer o homem enquanto elemento integrante de grupos organizado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0400" y="276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2º) Ciência Humana - volta-se especificamente para o homem como um todo: sua história, suas crenças, usos e costumes, filosofia, linguagem etc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49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ahoma"/>
              </a:rPr>
              <a:t>Alunos:</a:t>
            </a:r>
            <a:br>
              <a:rPr sz="60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Aletéia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Athemis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Emyli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Odiléia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Priscila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Rafael Marcian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ntropologia - esta ciência entende a cultura como o totalidade de padrões aprendidos e desenvolvidos pelo ser humano. As formas de organização de um povo, seus costumes e tradições transmitidas de geração para geração que, a partir de uma vivência e tradição comum, se apresentam como a identidade desse pov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 Antropologia, sendo a ciência da humanidade e da cultura, tem um campo de investigação extremamente vasto: abrange, no espaço, toda a terra habitada; no tempo, pelo menos dois milhões de anos, e todas as populações socialmente organizadas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400" y="-1108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 antropologia cultural é diferente da antropologia social, diferindo principalmente na perspectiv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800" spc="-1" strike="noStrike">
                <a:solidFill>
                  <a:srgbClr val="ffffff"/>
                </a:solidFill>
                <a:latin typeface="Tahoma"/>
              </a:rPr>
              <a:t>A Antropologia cultural: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Tahoma"/>
              </a:rPr>
              <a:t>Tem por objetivo o estudo do homem e das sociedades humanas na sua vertente cultural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 representação, pela palavra ou pela imagem, é uma das suas questões centrais. Assim, o estudo da natureza do signo na comunicação humana, tornou-se preocupação maior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2549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signo em linguagem humana e, em representação iconográfica, o ícone, são pontos de partida para o desenvolvimento das disciplinas da antropologia oral ou da  antropologia visua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5120" y="2476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 criação desta disciplina reflete em parte uma reação contra a noção antiga de oposição entre "cultura" e "natureza", segundo a qual alguns humanos vivem num "estado natural" (de pura natureza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3120" y="2692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ntropólogos argumentam que a cultura é "natureza humana" e que todas as pessoas têm a capacidade de classificar experiências, codificar classificações simbolicamente e transmitir tais abstrações. Desde que a cultura é aprendida que pessoas vivendo em diferentes lugares têm diferentes cultura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3:03:43Z</dcterms:created>
  <dc:creator>fabinho</dc:creator>
  <dc:description/>
  <dc:language>en-US</dc:language>
  <cp:lastModifiedBy>USER</cp:lastModifiedBy>
  <dcterms:modified xsi:type="dcterms:W3CDTF">2009-08-25T23:49:03Z</dcterms:modified>
  <cp:revision>4</cp:revision>
  <dc:subject/>
  <dc:title>Slide 1</dc:title>
</cp:coreProperties>
</file>